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764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3500" spc="-1" strike="noStrike">
                <a:solidFill>
                  <a:srgbClr val="cc0000"/>
                </a:solidFill>
                <a:latin typeface="Tahoma"/>
              </a:rPr>
              <a:t>Click to move the slide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10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0" y="0"/>
            <a:ext cx="32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278240" y="0"/>
            <a:ext cx="32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4"/>
          </p:nvPr>
        </p:nvSpPr>
        <p:spPr>
          <a:xfrm>
            <a:off x="427788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4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4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3280F-1B73-4E65-91E7-E3F7D46ADA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07EF9-C14D-43CD-ABC8-1482B8FC55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C48C2-8FEE-4240-A340-AB12455203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3400" y="812880"/>
            <a:ext cx="5338800" cy="4005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9E78D-E9AE-4905-BF7C-9D23F4548C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7379F-B60F-47FB-86C4-6CD660A4AF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3400" y="812880"/>
            <a:ext cx="5338800" cy="4005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E4E82-3444-480E-8291-E9C4EF660E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47B74-A818-44FD-A80C-0F6EF42A9A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3400" y="812880"/>
            <a:ext cx="5338800" cy="4005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F820C-FD5A-42F7-AE34-DAFE97F99F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28CDF-9F4C-466E-AA7A-C633090DF4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1106640" y="812880"/>
            <a:ext cx="5338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7F18D-CA88-42F5-B881-30BD4A1AAC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0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7AF29-EACA-4587-92A4-C8376085AB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3400" y="812880"/>
            <a:ext cx="5338800" cy="4005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F9B5A-08FA-462F-8739-32C5882EDF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4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43F7A-121A-4D69-9644-3170D9492A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1106640" y="812880"/>
            <a:ext cx="5338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0FBC7-9F74-4F2A-B870-6BBBC60115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8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41D0B-5325-4B4A-8531-3AF77B3AE6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1106640" y="812880"/>
            <a:ext cx="5338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D1828-0711-4A70-B874-91A71DFEAA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2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CF7FB-2DB1-4633-B059-491D627841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1106640" y="812880"/>
            <a:ext cx="5338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56DC3-F329-42B8-8C26-A0865DE36A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5FF32-9444-4A48-832D-D3DD7F7F2C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1106640" y="812880"/>
            <a:ext cx="5338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81FCC-17BE-4237-B03B-A8819DB04E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0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F92E8-B182-4DAD-8114-950C2887C0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1106640" y="812880"/>
            <a:ext cx="5338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06C3C-151A-4980-ABBE-C198C14140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4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D3C75-9848-465C-B591-61D2BAAFE5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340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7F0AC-70A6-4BD3-8E86-FC4D4A4254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4278240" y="10156680"/>
            <a:ext cx="32655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1BAF0-D8C1-432D-9166-4DCAE6D2EE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E18AF-DF11-4D9E-9F0C-DC6FE876B8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5D307-7A36-4685-852A-95194867F0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1FF6D-2437-4503-BB32-C4C15AC81C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8E558-B085-41DB-9669-0A3F7858FC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1106640" y="812880"/>
            <a:ext cx="5338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C4482-0F32-4BE2-A957-D0800A9C04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B1C9E-7437-45E4-B46E-337FB44976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FA990-D7E9-4145-A7EC-519E7DEE72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61E9C-20DC-4DDC-AD55-F25A7F1CFF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E195F-2B97-4CD6-9A3A-EBD38BA21F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51ED6-E2BD-4132-8F32-CA237AD3D4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6E10E-28A5-46E5-A8E6-3D59A91174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6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64CA7-81E4-419B-9388-09922835B7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6"/>
          <p:cNvSpPr/>
          <p:nvPr/>
        </p:nvSpPr>
        <p:spPr>
          <a:xfrm>
            <a:off x="4278240" y="10155240"/>
            <a:ext cx="3264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B0F81-8DDD-499D-B4B7-8483ECE6C4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4278240" y="10156680"/>
            <a:ext cx="3267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1FA08-8461-4700-A62E-16F4CD900C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4278240" y="1015668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351DA-6ADD-40EA-8C94-3883383642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0" y="1015668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27824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106640" y="80172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885672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63640" y="4304880"/>
            <a:ext cx="885672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0180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63640" y="4304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01800" y="4304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58120" y="1847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2600" y="1847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63640" y="4304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58120" y="4304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52600" y="4304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678-B2FF-479A-8267-98956E2C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63640" y="1847880"/>
            <a:ext cx="88567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37D-895B-4AE9-957D-1F8845AE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885672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787-DDBD-4FFF-841A-CCE6176D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432180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01800" y="1847880"/>
            <a:ext cx="432180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D6F-B120-4E46-8B41-85FF703E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BC7-F285-4A45-A934-8B033DFC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79280" y="420840"/>
            <a:ext cx="80643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B77-05C8-4B48-A461-BD93513A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01800" y="1847880"/>
            <a:ext cx="432180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63640" y="4304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0FE-252C-4D49-A78B-B9F45DD8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63640" y="1847880"/>
            <a:ext cx="88567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432180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180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01800" y="4304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991-4E85-495D-9F44-406DA0C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0180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3640" y="4304880"/>
            <a:ext cx="885672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596-24CD-44CD-81BE-7C65B3C8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885672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63640" y="4304880"/>
            <a:ext cx="885672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E29-53F6-424D-83EF-7919A8D1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0180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63640" y="4304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01800" y="4304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BEB-7664-4087-A51A-FA7284C3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58120" y="1847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2600" y="1847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63640" y="4304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58120" y="4304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852600" y="4304880"/>
            <a:ext cx="285156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B6E-4DB0-47D9-AB5C-34607D10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885672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432180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01800" y="1847880"/>
            <a:ext cx="432180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79280" y="420840"/>
            <a:ext cx="8064360" cy="58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01800" y="1847880"/>
            <a:ext cx="432180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63640" y="4304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432180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0180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01800" y="4304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01800" y="1847880"/>
            <a:ext cx="432180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63640" y="4304880"/>
            <a:ext cx="8856720" cy="2243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1847880"/>
            <a:ext cx="885672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2232000" y="725976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23° Corso di Aggiornamento – S.I.M.F.E.R. Emilia Romagna - </a:t>
            </a: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24 Maggio 2012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63640" y="1847880"/>
            <a:ext cx="885672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252360" y="697392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2520720" y="6972120"/>
            <a:ext cx="3190680" cy="41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5964120" y="6972120"/>
            <a:ext cx="2100240" cy="417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1" lang="it-IT" sz="13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4981DAB-194D-4E8D-BCA3-B75C3DAF0EDC}" type="slidenum">
              <a:rPr b="1" lang="it-IT" sz="13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7558200" y="1339920"/>
            <a:ext cx="203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607080" y="228600"/>
            <a:ext cx="203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31640" y="1908000"/>
            <a:ext cx="9064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Picture 8" descr="phoca_thumb_l_riccione2012-r"/>
          <p:cNvPicPr/>
          <p:nvPr/>
        </p:nvPicPr>
        <p:blipFill>
          <a:blip r:embed="rId2"/>
          <a:srcRect l="0" t="5177" r="0" b="0"/>
          <a:stretch/>
        </p:blipFill>
        <p:spPr>
          <a:xfrm>
            <a:off x="0" y="5292720"/>
            <a:ext cx="10080720" cy="2266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2879640" y="6012000"/>
            <a:ext cx="720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23° Corso di Aggiornamento – S.I.M.F.E.R. Emilia Romagna</a:t>
            </a:r>
            <a:br>
              <a:rPr sz="1600"/>
            </a:br>
            <a:r>
              <a:rPr b="0" i="1" lang="it-IT" sz="1800" spc="-1" strike="noStrike">
                <a:solidFill>
                  <a:srgbClr val="000099"/>
                </a:solidFill>
                <a:latin typeface="Arial"/>
              </a:rPr>
              <a:t>24 Maggio 2012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1763280"/>
            <a:ext cx="8064360" cy="2940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ahoma"/>
              </a:rPr>
              <a:t>DISFAGIA</a:t>
            </a: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ahoma"/>
              </a:rPr>
              <a:t>Valutazione e trattamento logopedico nel paziente con ictus in fase acuta</a:t>
            </a: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41400" y="4932360"/>
            <a:ext cx="5461200" cy="719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700" spc="-1" strike="noStrike">
                <a:solidFill>
                  <a:srgbClr val="cc0000"/>
                </a:solidFill>
                <a:latin typeface="Tahoma"/>
              </a:rPr>
              <a:t>Renata Azzali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15" descr="LogoASMNIRCCSWInternetTraspSotto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73080" y="34920"/>
            <a:ext cx="2879640" cy="879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76480" y="1427040"/>
            <a:ext cx="420048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imentazione esclusivamente per via ora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imentazione per via orale. Dieta e /o autonomia modificat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ecessità di alimentazione artificia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545080" y="1427040"/>
            <a:ext cx="453564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ormalità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lain" startAt="6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i limiti funzionali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sfagia liev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sfagia lieve/moderat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sfagia moderat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sfagia moderata/sever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sfagia severa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28480" indent="-528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2808360" y="2916360"/>
            <a:ext cx="504036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2808360" y="5148360"/>
            <a:ext cx="504036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0" y="6948360"/>
            <a:ext cx="1008072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O’Neil KH, Purdy M, Falk J, Gallo L. The dysphagia outcome and severity scale. Dysphagia 14:139-145, 1999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8360" y="-360"/>
            <a:ext cx="8064720" cy="125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SCALA DOSS</a:t>
            </a:r>
            <a:br>
              <a:rPr sz="35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Disphagia Outcome and Severity Scale</a:t>
            </a:r>
            <a:endParaRPr b="1" lang="en-US" sz="2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46"/>
          <p:cNvGrpSpPr/>
          <p:nvPr/>
        </p:nvGrpSpPr>
        <p:grpSpPr>
          <a:xfrm>
            <a:off x="64080" y="1550880"/>
            <a:ext cx="10158840" cy="2356560"/>
            <a:chOff x="64080" y="1550880"/>
            <a:chExt cx="10158840" cy="2356560"/>
          </a:xfrm>
        </p:grpSpPr>
        <p:grpSp>
          <p:nvGrpSpPr>
            <p:cNvPr id="149" name="Group 45"/>
            <p:cNvGrpSpPr/>
            <p:nvPr/>
          </p:nvGrpSpPr>
          <p:grpSpPr>
            <a:xfrm>
              <a:off x="64080" y="1550880"/>
              <a:ext cx="9531720" cy="2356560"/>
              <a:chOff x="64080" y="1550880"/>
              <a:chExt cx="9531720" cy="2356560"/>
            </a:xfrm>
          </p:grpSpPr>
          <p:grpSp>
            <p:nvGrpSpPr>
              <p:cNvPr id="150" name="Group 7"/>
              <p:cNvGrpSpPr/>
              <p:nvPr/>
            </p:nvGrpSpPr>
            <p:grpSpPr>
              <a:xfrm>
                <a:off x="1716840" y="1550880"/>
                <a:ext cx="4316760" cy="2356560"/>
                <a:chOff x="1716840" y="1550880"/>
                <a:chExt cx="4316760" cy="2356560"/>
              </a:xfrm>
            </p:grpSpPr>
            <p:sp>
              <p:nvSpPr>
                <p:cNvPr id="151" name="Text Box 8"/>
                <p:cNvSpPr/>
                <p:nvPr/>
              </p:nvSpPr>
              <p:spPr>
                <a:xfrm>
                  <a:off x="1716840" y="1550880"/>
                  <a:ext cx="4316760" cy="235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0800" rIns="100800" tIns="50400" bIns="504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it-IT" sz="2200" spc="-1" strike="noStrike">
                      <a:solidFill>
                        <a:srgbClr val="000000"/>
                      </a:solidFill>
                      <a:latin typeface="Tahoma"/>
                    </a:rPr>
                    <a:t>Alimentazione per os:</a:t>
                  </a:r>
                  <a:endParaRPr b="0" lang="en-US" sz="2200" spc="-1" strike="noStrike">
                    <a:solidFill>
                      <a:srgbClr val="3366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cc0000"/>
                    </a:buClr>
                    <a:buFont typeface="Tahoma"/>
                    <a:buChar char="•"/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Semisolido </a:t>
                  </a: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cc0000"/>
                    </a:buClr>
                    <a:buFont typeface="Tahoma"/>
                    <a:buChar char="•"/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Tronco eretto e capo </a:t>
                  </a: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cc0000"/>
                    </a:buClr>
                    <a:buFont typeface="Tahoma"/>
                    <a:buChar char="•"/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leggermente flesso in avanti</a:t>
                  </a: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cc0000"/>
                    </a:buClr>
                    <a:buFont typeface="Tahoma"/>
                    <a:buChar char="•"/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Tossire ogni 2-3 deglutizioni</a:t>
                  </a: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cc0000"/>
                    </a:buClr>
                    <a:buFont typeface="Tahoma"/>
                    <a:buChar char="•"/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Osservazione 1 o 2 pasti</a:t>
                  </a: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cc0000"/>
                    </a:buClr>
                    <a:buFont typeface="Tahoma"/>
                    <a:buChar char="•"/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ahoma"/>
                    </a:rPr>
                    <a:t>Monitoraggio quantità</a:t>
                  </a: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52" name="AutoShape 9"/>
                <p:cNvSpPr/>
                <p:nvPr/>
              </p:nvSpPr>
              <p:spPr>
                <a:xfrm>
                  <a:off x="1763640" y="2444760"/>
                  <a:ext cx="414360" cy="247680"/>
                </a:xfrm>
                <a:prstGeom prst="rightArrow">
                  <a:avLst>
                    <a:gd name="adj1" fmla="val 50000"/>
                    <a:gd name="adj2" fmla="val 41824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3"/>
              <p:cNvGrpSpPr/>
              <p:nvPr/>
            </p:nvGrpSpPr>
            <p:grpSpPr>
              <a:xfrm>
                <a:off x="64080" y="1647720"/>
                <a:ext cx="9531720" cy="1800720"/>
                <a:chOff x="64080" y="1647720"/>
                <a:chExt cx="9531720" cy="1800720"/>
              </a:xfrm>
            </p:grpSpPr>
            <p:sp>
              <p:nvSpPr>
                <p:cNvPr id="154" name="Text Box 2"/>
                <p:cNvSpPr/>
                <p:nvPr/>
              </p:nvSpPr>
              <p:spPr>
                <a:xfrm>
                  <a:off x="64080" y="2244600"/>
                  <a:ext cx="173556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0800" rIns="100800" tIns="50400" bIns="50400" anchor="t">
                  <a:sp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it-IT" sz="2200" spc="-1" strike="noStrike">
                      <a:solidFill>
                        <a:srgbClr val="000000"/>
                      </a:solidFill>
                      <a:latin typeface="Arial"/>
                    </a:rPr>
                    <a:t>TEST</a:t>
                  </a:r>
                  <a:endParaRPr b="0" lang="en-US" sz="2200" spc="-1" strike="noStrike">
                    <a:solidFill>
                      <a:srgbClr val="3366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it-IT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it-IT" sz="2200" spc="-1" strike="noStrike">
                      <a:solidFill>
                        <a:srgbClr val="000000"/>
                      </a:solidFill>
                      <a:latin typeface="Arial"/>
                    </a:rPr>
                    <a:t>NEGATIVO</a:t>
                  </a:r>
                  <a:endParaRPr b="0" lang="en-US" sz="22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Group 13"/>
                <p:cNvGrpSpPr/>
                <p:nvPr/>
              </p:nvGrpSpPr>
              <p:grpSpPr>
                <a:xfrm>
                  <a:off x="5545080" y="1785960"/>
                  <a:ext cx="2188440" cy="649800"/>
                  <a:chOff x="5545080" y="1785960"/>
                  <a:chExt cx="2188440" cy="649800"/>
                </a:xfrm>
              </p:grpSpPr>
              <p:sp>
                <p:nvSpPr>
                  <p:cNvPr id="156" name="AutoShape 14"/>
                  <p:cNvSpPr/>
                  <p:nvPr/>
                </p:nvSpPr>
                <p:spPr>
                  <a:xfrm>
                    <a:off x="5545080" y="1932120"/>
                    <a:ext cx="414360" cy="245880"/>
                  </a:xfrm>
                  <a:prstGeom prst="rightArrow">
                    <a:avLst>
                      <a:gd name="adj1" fmla="val 50000"/>
                      <a:gd name="adj2" fmla="val 4213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15"/>
                  <p:cNvSpPr/>
                  <p:nvPr/>
                </p:nvSpPr>
                <p:spPr>
                  <a:xfrm>
                    <a:off x="6022440" y="1785960"/>
                    <a:ext cx="1711080" cy="64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800" rIns="100800" tIns="50400" bIns="504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it-IT" sz="1800" spc="-1" strike="noStrike">
                        <a:solidFill>
                          <a:srgbClr val="000000"/>
                        </a:solidFill>
                        <a:latin typeface="Tahoma"/>
                      </a:rPr>
                      <a:t>NO </a:t>
                    </a: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it-IT" sz="1800" spc="-1" strike="noStrike">
                        <a:solidFill>
                          <a:srgbClr val="000000"/>
                        </a:solidFill>
                        <a:latin typeface="Tahoma"/>
                      </a:rPr>
                      <a:t>DIFFICOLTA’</a:t>
                    </a: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16"/>
                <p:cNvGrpSpPr/>
                <p:nvPr/>
              </p:nvGrpSpPr>
              <p:grpSpPr>
                <a:xfrm>
                  <a:off x="5545080" y="2798640"/>
                  <a:ext cx="2296080" cy="649800"/>
                  <a:chOff x="5545080" y="2798640"/>
                  <a:chExt cx="2296080" cy="649800"/>
                </a:xfrm>
              </p:grpSpPr>
              <p:sp>
                <p:nvSpPr>
                  <p:cNvPr id="159" name="AutoShape 17"/>
                  <p:cNvSpPr/>
                  <p:nvPr/>
                </p:nvSpPr>
                <p:spPr>
                  <a:xfrm>
                    <a:off x="5545080" y="2940120"/>
                    <a:ext cx="414360" cy="245880"/>
                  </a:xfrm>
                  <a:prstGeom prst="rightArrow">
                    <a:avLst>
                      <a:gd name="adj1" fmla="val 50000"/>
                      <a:gd name="adj2" fmla="val 4213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Text Box 18"/>
                  <p:cNvSpPr/>
                  <p:nvPr/>
                </p:nvSpPr>
                <p:spPr>
                  <a:xfrm>
                    <a:off x="5992920" y="2798640"/>
                    <a:ext cx="1848240" cy="64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800" rIns="100800" tIns="50400" bIns="504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it-IT" sz="1800" spc="-1" strike="noStrike">
                        <a:solidFill>
                          <a:srgbClr val="000000"/>
                        </a:solidFill>
                        <a:latin typeface="Tahoma"/>
                      </a:rPr>
                      <a:t>DIFFICOLTA’ </a:t>
                    </a: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1" lang="it-IT" sz="1800" spc="-1" strike="noStrike">
                        <a:solidFill>
                          <a:srgbClr val="000000"/>
                        </a:solidFill>
                        <a:latin typeface="Tahoma"/>
                      </a:rPr>
                      <a:t>o DUBBI</a:t>
                    </a:r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19"/>
                <p:cNvGrpSpPr/>
                <p:nvPr/>
              </p:nvGrpSpPr>
              <p:grpSpPr>
                <a:xfrm>
                  <a:off x="7812000" y="1647720"/>
                  <a:ext cx="1783800" cy="771480"/>
                  <a:chOff x="7812000" y="1647720"/>
                  <a:chExt cx="1783800" cy="771480"/>
                </a:xfrm>
              </p:grpSpPr>
              <p:sp>
                <p:nvSpPr>
                  <p:cNvPr id="162" name="AutoShape 20"/>
                  <p:cNvSpPr/>
                  <p:nvPr/>
                </p:nvSpPr>
                <p:spPr>
                  <a:xfrm>
                    <a:off x="7812000" y="1932120"/>
                    <a:ext cx="416160" cy="247680"/>
                  </a:xfrm>
                  <a:prstGeom prst="rightArrow">
                    <a:avLst>
                      <a:gd name="adj1" fmla="val 50000"/>
                      <a:gd name="adj2" fmla="val 42006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0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Text Box 21"/>
                  <p:cNvSpPr/>
                  <p:nvPr/>
                </p:nvSpPr>
                <p:spPr>
                  <a:xfrm>
                    <a:off x="8387640" y="1647720"/>
                    <a:ext cx="1208160" cy="77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800" rIns="100800" tIns="50400" bIns="504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it-IT" sz="2200" spc="-1" strike="noStrike">
                        <a:solidFill>
                          <a:srgbClr val="000000"/>
                        </a:solidFill>
                        <a:latin typeface="Tahoma"/>
                      </a:rPr>
                      <a:t>DIETA</a:t>
                    </a:r>
                    <a:endParaRPr b="0" lang="en-US" sz="22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8985240"/>
                        <a:tab algn="l" pos="9434520"/>
                        <a:tab algn="l" pos="9883800"/>
                        <a:tab algn="l" pos="10333080"/>
                        <a:tab algn="l" pos="10782360"/>
                      </a:tabLst>
                    </a:pPr>
                    <a:r>
                      <a:rPr b="0" lang="it-IT" sz="2200" spc="-1" strike="noStrike">
                        <a:solidFill>
                          <a:srgbClr val="000000"/>
                        </a:solidFill>
                        <a:latin typeface="Tahoma"/>
                      </a:rPr>
                      <a:t>LIBERA</a:t>
                    </a:r>
                    <a:endParaRPr b="0" lang="en-US" sz="22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4" name="Group 22"/>
            <p:cNvGrpSpPr/>
            <p:nvPr/>
          </p:nvGrpSpPr>
          <p:grpSpPr>
            <a:xfrm>
              <a:off x="7883640" y="2700360"/>
              <a:ext cx="2339280" cy="711000"/>
              <a:chOff x="7883640" y="2700360"/>
              <a:chExt cx="2339280" cy="711000"/>
            </a:xfrm>
          </p:grpSpPr>
          <p:sp>
            <p:nvSpPr>
              <p:cNvPr id="165" name="AutoShape 23"/>
              <p:cNvSpPr/>
              <p:nvPr/>
            </p:nvSpPr>
            <p:spPr>
              <a:xfrm>
                <a:off x="7883640" y="2959200"/>
                <a:ext cx="414360" cy="247680"/>
              </a:xfrm>
              <a:prstGeom prst="rightArrow">
                <a:avLst>
                  <a:gd name="adj1" fmla="val 50000"/>
                  <a:gd name="adj2" fmla="val 4182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66" name="Text Box 24"/>
              <p:cNvSpPr/>
              <p:nvPr/>
            </p:nvSpPr>
            <p:spPr>
              <a:xfrm>
                <a:off x="8191800" y="2700360"/>
                <a:ext cx="2031120" cy="71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Segnalazione</a:t>
                </a: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Logopedista</a:t>
                </a: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280" y="34560"/>
            <a:ext cx="8064360" cy="125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COME PROCEDERE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168" name="Group 44"/>
          <p:cNvGrpSpPr/>
          <p:nvPr/>
        </p:nvGrpSpPr>
        <p:grpSpPr>
          <a:xfrm>
            <a:off x="159120" y="4494240"/>
            <a:ext cx="9960120" cy="2733480"/>
            <a:chOff x="159120" y="4494240"/>
            <a:chExt cx="9960120" cy="2733480"/>
          </a:xfrm>
        </p:grpSpPr>
        <p:sp>
          <p:nvSpPr>
            <p:cNvPr id="169" name="Text Box 3"/>
            <p:cNvSpPr/>
            <p:nvPr/>
          </p:nvSpPr>
          <p:spPr>
            <a:xfrm>
              <a:off x="159120" y="4764240"/>
              <a:ext cx="154332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200" spc="-1" strike="noStrike">
                  <a:solidFill>
                    <a:srgbClr val="000099"/>
                  </a:solidFill>
                  <a:latin typeface="Arial"/>
                </a:rPr>
                <a:t>TEST 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200" spc="-1" strike="noStrike">
                  <a:solidFill>
                    <a:srgbClr val="000099"/>
                  </a:solidFill>
                  <a:latin typeface="Tahoma"/>
                </a:rPr>
                <a:t>POSITIVO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70" name="Group 4"/>
            <p:cNvGrpSpPr/>
            <p:nvPr/>
          </p:nvGrpSpPr>
          <p:grpSpPr>
            <a:xfrm>
              <a:off x="1121040" y="4494240"/>
              <a:ext cx="8081280" cy="436320"/>
              <a:chOff x="1121040" y="4494240"/>
              <a:chExt cx="8081280" cy="436320"/>
            </a:xfrm>
          </p:grpSpPr>
          <p:sp>
            <p:nvSpPr>
              <p:cNvPr id="171" name="Text Box 5"/>
              <p:cNvSpPr/>
              <p:nvPr/>
            </p:nvSpPr>
            <p:spPr>
              <a:xfrm>
                <a:off x="1121040" y="4494240"/>
                <a:ext cx="80812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it-IT" sz="2200" spc="-1" strike="noStrike">
                    <a:solidFill>
                      <a:srgbClr val="000099"/>
                    </a:solidFill>
                    <a:latin typeface="Tahoma"/>
                  </a:rPr>
                  <a:t>Nutrizione alternativa (enterale o parenterale)</a:t>
                </a:r>
                <a:endParaRPr b="0" lang="en-US" sz="2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72" name="AutoShape 6"/>
              <p:cNvSpPr/>
              <p:nvPr/>
            </p:nvSpPr>
            <p:spPr>
              <a:xfrm>
                <a:off x="1727280" y="4603680"/>
                <a:ext cx="414360" cy="247680"/>
              </a:xfrm>
              <a:prstGeom prst="rightArrow">
                <a:avLst>
                  <a:gd name="adj1" fmla="val 50000"/>
                  <a:gd name="adj2" fmla="val 4182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173" name="Text Box 11"/>
            <p:cNvSpPr/>
            <p:nvPr/>
          </p:nvSpPr>
          <p:spPr>
            <a:xfrm>
              <a:off x="1977480" y="5219640"/>
              <a:ext cx="221400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200" spc="-1" strike="noStrike">
                  <a:solidFill>
                    <a:srgbClr val="000099"/>
                  </a:solidFill>
                  <a:latin typeface="Tahoma"/>
                </a:rPr>
                <a:t>Segnalazione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200" spc="-1" strike="noStrike">
                  <a:solidFill>
                    <a:srgbClr val="000099"/>
                  </a:solidFill>
                  <a:latin typeface="Tahoma"/>
                </a:rPr>
                <a:t>Logopedista</a:t>
              </a:r>
              <a:endParaRPr b="0" lang="en-US" sz="2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4" name="AutoShape 12"/>
            <p:cNvSpPr/>
            <p:nvPr/>
          </p:nvSpPr>
          <p:spPr>
            <a:xfrm>
              <a:off x="1727280" y="5508720"/>
              <a:ext cx="414360" cy="247680"/>
            </a:xfrm>
            <a:prstGeom prst="rightArrow">
              <a:avLst>
                <a:gd name="adj1" fmla="val 50000"/>
                <a:gd name="adj2" fmla="val 4182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75" name="Group 25"/>
            <p:cNvGrpSpPr/>
            <p:nvPr/>
          </p:nvGrpSpPr>
          <p:grpSpPr>
            <a:xfrm>
              <a:off x="6408720" y="5148360"/>
              <a:ext cx="3710520" cy="431640"/>
              <a:chOff x="6408720" y="5148360"/>
              <a:chExt cx="3710520" cy="431640"/>
            </a:xfrm>
          </p:grpSpPr>
          <p:sp>
            <p:nvSpPr>
              <p:cNvPr id="176" name="AutoShape 26"/>
              <p:cNvSpPr/>
              <p:nvPr/>
            </p:nvSpPr>
            <p:spPr>
              <a:xfrm>
                <a:off x="6408720" y="5332320"/>
                <a:ext cx="414360" cy="247680"/>
              </a:xfrm>
              <a:prstGeom prst="rightArrow">
                <a:avLst>
                  <a:gd name="adj1" fmla="val 50000"/>
                  <a:gd name="adj2" fmla="val 4182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77" name="Text Box 27"/>
              <p:cNvSpPr/>
              <p:nvPr/>
            </p:nvSpPr>
            <p:spPr>
              <a:xfrm>
                <a:off x="6564240" y="5148360"/>
                <a:ext cx="355500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it-IT" sz="2000" spc="-1" strike="noStrike">
                    <a:solidFill>
                      <a:srgbClr val="000099"/>
                    </a:solidFill>
                    <a:latin typeface="Tahoma"/>
                  </a:rPr>
                  <a:t>Procedure Terapeutiche</a:t>
                </a: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178" name="AutoShape 29"/>
            <p:cNvSpPr/>
            <p:nvPr/>
          </p:nvSpPr>
          <p:spPr>
            <a:xfrm rot="1340400">
              <a:off x="6335640" y="5651280"/>
              <a:ext cx="426960" cy="303120"/>
            </a:xfrm>
            <a:prstGeom prst="rightArrow">
              <a:avLst>
                <a:gd name="adj1" fmla="val 50000"/>
                <a:gd name="adj2" fmla="val 352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79" name="Text Box 30"/>
            <p:cNvSpPr/>
            <p:nvPr/>
          </p:nvSpPr>
          <p:spPr>
            <a:xfrm>
              <a:off x="6696000" y="5678640"/>
              <a:ext cx="29527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Tahoma"/>
                </a:rPr>
                <a:t>Provvedimenti adattativi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80" name="Group 31"/>
            <p:cNvGrpSpPr/>
            <p:nvPr/>
          </p:nvGrpSpPr>
          <p:grpSpPr>
            <a:xfrm>
              <a:off x="4032360" y="5372280"/>
              <a:ext cx="2514600" cy="649800"/>
              <a:chOff x="4032360" y="5372280"/>
              <a:chExt cx="2514600" cy="649800"/>
            </a:xfrm>
          </p:grpSpPr>
          <p:sp>
            <p:nvSpPr>
              <p:cNvPr id="181" name="Text Box 32"/>
              <p:cNvSpPr/>
              <p:nvPr/>
            </p:nvSpPr>
            <p:spPr>
              <a:xfrm>
                <a:off x="4453200" y="5372280"/>
                <a:ext cx="2093760" cy="64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it-IT" sz="1800" spc="-1" strike="noStrike">
                    <a:solidFill>
                      <a:srgbClr val="000099"/>
                    </a:solidFill>
                    <a:latin typeface="Tahoma"/>
                  </a:rPr>
                  <a:t>VALUTAZIONE</a:t>
                </a: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it-IT" sz="1800" spc="-1" strike="noStrike">
                    <a:solidFill>
                      <a:srgbClr val="000099"/>
                    </a:solidFill>
                    <a:latin typeface="Tahoma"/>
                  </a:rPr>
                  <a:t>CLINICA</a:t>
                </a:r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2" name="AutoShape 33"/>
              <p:cNvSpPr/>
              <p:nvPr/>
            </p:nvSpPr>
            <p:spPr>
              <a:xfrm>
                <a:off x="4032360" y="5508720"/>
                <a:ext cx="416160" cy="247680"/>
              </a:xfrm>
              <a:prstGeom prst="rightArrow">
                <a:avLst>
                  <a:gd name="adj1" fmla="val 50000"/>
                  <a:gd name="adj2" fmla="val 4200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183" name="AutoShape 39"/>
            <p:cNvSpPr/>
            <p:nvPr/>
          </p:nvSpPr>
          <p:spPr>
            <a:xfrm rot="2187600">
              <a:off x="6119280" y="5940360"/>
              <a:ext cx="427320" cy="303120"/>
            </a:xfrm>
            <a:prstGeom prst="rightArrow">
              <a:avLst>
                <a:gd name="adj1" fmla="val 50000"/>
                <a:gd name="adj2" fmla="val 3524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4" name="Text Box 40"/>
            <p:cNvSpPr/>
            <p:nvPr/>
          </p:nvSpPr>
          <p:spPr>
            <a:xfrm>
              <a:off x="5761080" y="6516720"/>
              <a:ext cx="34560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Tahoma"/>
                </a:rPr>
                <a:t>Valutazione strumentale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5" name="AutoShape 41"/>
            <p:cNvSpPr/>
            <p:nvPr/>
          </p:nvSpPr>
          <p:spPr>
            <a:xfrm rot="3849000">
              <a:off x="5616360" y="6151680"/>
              <a:ext cx="426960" cy="303120"/>
            </a:xfrm>
            <a:prstGeom prst="rightArrow">
              <a:avLst>
                <a:gd name="adj1" fmla="val 50000"/>
                <a:gd name="adj2" fmla="val 3521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86" name="Text Box 42"/>
            <p:cNvSpPr/>
            <p:nvPr/>
          </p:nvSpPr>
          <p:spPr>
            <a:xfrm>
              <a:off x="6553080" y="6084720"/>
              <a:ext cx="345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000099"/>
                  </a:solidFill>
                  <a:latin typeface="Tahoma"/>
                </a:rPr>
                <a:t>Counselling</a:t>
              </a: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63640" y="1847520"/>
            <a:ext cx="8856720" cy="5388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0440" indent="-370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I DEFICIT D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ABB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U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ING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AL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0440" indent="-370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TERIA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BBASSALINGU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PECCHIETTI LARINGE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PAZZOLINI MANUALI O ELETTRI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AR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HIAC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IQUIDI CALDI O FREDD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28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0440" indent="-370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EGUIRE STIMOLAZIONI MEDIANTE SFIORAMENTO-PRESSIONE – MASSAGGIO - TAMBURELLAMENTO DELLE AREE INTERESS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5"/>
          <a:stretch/>
        </p:blipFill>
        <p:spPr>
          <a:xfrm>
            <a:off x="8353440" y="1914480"/>
            <a:ext cx="1305000" cy="150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9280" y="-181080"/>
            <a:ext cx="7993080" cy="1860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1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ahoma"/>
              </a:rPr>
              <a:t>ESERCIZI ATTIVI E PASSIVI DELLA MUSCOLATURA E TECNICHE DI STIMOLAZIONE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Tahoma"/>
              </a:rPr>
              <a:t> TATTILE, VIBRATORIA, TERMICA</a:t>
            </a:r>
            <a:endParaRPr b="1" lang="en-US" sz="28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1871640" y="0"/>
            <a:ext cx="6446880" cy="755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9280" y="34560"/>
            <a:ext cx="8064360" cy="125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BILANCIO LOGOPEDICO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63640" y="1476360"/>
            <a:ext cx="8856720" cy="5711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TUTTE LE INFORMAZIONI RACCOLTE PERMETTONO DI DEFINIRE IN PRESENZA DI DISFA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LI OBIETTIVI RIABILITATIV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IANO DI TRATTA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OBIETTIVO RIABILITATIVO PRIM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ECUPERO DELLA  DEGLUTIZIONE NORMALE O IL PIÙ POSSIBILE FISIOLOG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E CIÒ NON È POSSIBILE L’ OBIETTIVO E’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TTENERE UNA DEGLUTIZIONE FUNZIONA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COMPROMESSI: MAGGIOR DURATA DELL’ATTO DEGLUTITORIO, LIMITAZIONI DIETETICHE, ESCLUSIONE DI PARTICOLARI CONSISTENZE, ADOZIONE DI POSTURE FACILITANTI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L FALLIMENTO PIÙ O MENO COMPLETO DI TALI OBIETTIVI: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ALIMENTAZIONE ALTERNATIVE (SNG-PE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107640"/>
            <a:ext cx="8064360" cy="125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POSTURE FACILITANTI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63640" y="1476360"/>
            <a:ext cx="8856720" cy="5711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6240" indent="-336240">
              <a:lnSpc>
                <a:spcPct val="9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postura più idonea va ricercata durante la valutazione ed eventualmente durante la valutazione strument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9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 posture riducono o eliminano il rischio di aspirazione nel 75-80% dei soggetti disfagi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9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on sempre possono essere applicate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(problemi motori, collo e cingolo scapolare, livello cognitivo, ecc..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tali tecniche producono una modifica alla velocità e alla direzione del bolo in quanto producono una modifica delle dimensioni della fari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Tavola posture (vedi Logemann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"/>
          <p:cNvGrpSpPr/>
          <p:nvPr/>
        </p:nvGrpSpPr>
        <p:grpSpPr>
          <a:xfrm>
            <a:off x="360360" y="179280"/>
            <a:ext cx="9428040" cy="7008840"/>
            <a:chOff x="360360" y="179280"/>
            <a:chExt cx="9428040" cy="7008840"/>
          </a:xfrm>
        </p:grpSpPr>
        <p:sp>
          <p:nvSpPr>
            <p:cNvPr id="196" name="Rectangle 2"/>
            <p:cNvSpPr/>
            <p:nvPr/>
          </p:nvSpPr>
          <p:spPr>
            <a:xfrm>
              <a:off x="7471080" y="5564160"/>
              <a:ext cx="2312280" cy="161892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7" name="Rectangle 3"/>
            <p:cNvSpPr/>
            <p:nvPr/>
          </p:nvSpPr>
          <p:spPr>
            <a:xfrm>
              <a:off x="5153760" y="5564160"/>
              <a:ext cx="2311920" cy="161892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Metacognizione dell’atto deglutitorio reso volontario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8" name="Rectangle 4"/>
            <p:cNvSpPr/>
            <p:nvPr/>
          </p:nvSpPr>
          <p:spPr>
            <a:xfrm>
              <a:off x="2834640" y="5564160"/>
              <a:ext cx="2315520" cy="161892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Inspirare e trattenere il fiato (apnea);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Introdurre  il cibo,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Far forza con la lingua sul palato o in alternativa (nei pazienti più gravi), stringere i denti; deglutire e infine Espirare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199" name="Rectangle 5"/>
            <p:cNvSpPr/>
            <p:nvPr/>
          </p:nvSpPr>
          <p:spPr>
            <a:xfrm>
              <a:off x="360360" y="5564160"/>
              <a:ext cx="2471040" cy="161892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cc0000"/>
                  </a:solidFill>
                  <a:latin typeface="Comic Sans MS"/>
                </a:rPr>
                <a:t>Scomposizione Della Deglutizione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7471080" y="4561200"/>
              <a:ext cx="2312280" cy="99828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Ridotta peristalsi faringea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e limitata escursione laringea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5153760" y="4561200"/>
              <a:ext cx="2311920" cy="99828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Prolungando   l’elevazione laringea si prolunga l’apertura dello sfintere cricofaringeo e dello sfintere esofageo superiore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2" name="Rectangle 8"/>
            <p:cNvSpPr/>
            <p:nvPr/>
          </p:nvSpPr>
          <p:spPr>
            <a:xfrm>
              <a:off x="2834640" y="4561200"/>
              <a:ext cx="2315520" cy="99828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Deglutire mantenendo manualmente l’elevazione laringea per pochi secondi, fino al termine della deglutizione successiva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360360" y="4561200"/>
              <a:ext cx="2471040" cy="99828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cc0000"/>
                  </a:solidFill>
                  <a:latin typeface="Comic Sans MS"/>
                </a:rPr>
                <a:t>Manovra di Mendelsohn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7471080" y="3612240"/>
              <a:ext cx="2312280" cy="94752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Ridotto movimento posteriore della base lingua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5153760" y="3612240"/>
              <a:ext cx="2311920" cy="94752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Lo sforzo aumenta il movimento della base lingua e la pressione faringea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2834640" y="3612240"/>
              <a:ext cx="2315520" cy="94752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Deglutire forzando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e  prolungando la pressione   della  lingua contro il palato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360360" y="3612240"/>
              <a:ext cx="2471040" cy="94752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cc0000"/>
                  </a:solidFill>
                  <a:latin typeface="Comic Sans MS"/>
                </a:rPr>
                <a:t>Deglutizione Forzata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7471080" y="2205720"/>
              <a:ext cx="2312280" cy="139968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Incompleta chiusura delle vie aeree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5153760" y="2205720"/>
              <a:ext cx="2311920" cy="139968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La chiusura sfinterica della glottide, provoca un’inclinazione anteriore delle cartilagini aritenoidee  e un accolllamento delle false corde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0" name="Rectangle 16"/>
            <p:cNvSpPr/>
            <p:nvPr/>
          </p:nvSpPr>
          <p:spPr>
            <a:xfrm>
              <a:off x="2834640" y="2205720"/>
              <a:ext cx="2315520" cy="139968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Stessa esecuzione della Deglutizione Sopraglottica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Ma durante l’apnea piena, eseguire  una chiusura sfinterica della glottide, con contrazione dei muscoli addominali.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1" name="Rectangle 17"/>
            <p:cNvSpPr/>
            <p:nvPr/>
          </p:nvSpPr>
          <p:spPr>
            <a:xfrm>
              <a:off x="360360" y="2205720"/>
              <a:ext cx="2471040" cy="139968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cc0000"/>
                  </a:solidFill>
                  <a:latin typeface="Comic Sans MS"/>
                </a:rPr>
                <a:t>Deglutizione Super Sopraglottica 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2" name="Rectangle 18"/>
            <p:cNvSpPr/>
            <p:nvPr/>
          </p:nvSpPr>
          <p:spPr>
            <a:xfrm>
              <a:off x="7471080" y="1131480"/>
              <a:ext cx="2312280" cy="107100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Ridotta o ritardata chiusura delle corde vocali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Ritardo d’innesco del riflesso faringeo della deglutizione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3" name="Rectangle 19"/>
            <p:cNvSpPr/>
            <p:nvPr/>
          </p:nvSpPr>
          <p:spPr>
            <a:xfrm>
              <a:off x="5153760" y="1131480"/>
              <a:ext cx="2311920" cy="107100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Mantenendo un’apnea volontaria, si chiudono le corde vocali prima e durante la deglutizione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4" name="Rectangle 20"/>
            <p:cNvSpPr/>
            <p:nvPr/>
          </p:nvSpPr>
          <p:spPr>
            <a:xfrm>
              <a:off x="2834640" y="1131480"/>
              <a:ext cx="2315520" cy="107100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Trattenere il fiato prima di iniziare la deglutizione,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mantenere l’apnea ,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000099"/>
                  </a:solidFill>
                  <a:latin typeface="Comic Sans MS"/>
                </a:rPr>
                <a:t>eseguire un colpo di tosse  alla fine della deglutizione </a:t>
              </a:r>
              <a:endParaRPr b="0" lang="en-US" sz="12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5" name="Rectangle 21"/>
            <p:cNvSpPr/>
            <p:nvPr/>
          </p:nvSpPr>
          <p:spPr>
            <a:xfrm>
              <a:off x="360360" y="1131480"/>
              <a:ext cx="2471040" cy="1071000"/>
            </a:xfrm>
            <a:prstGeom prst="rect">
              <a:avLst/>
            </a:prstGeom>
            <a:solidFill>
              <a:srgbClr val="ffff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cc0000"/>
                  </a:solidFill>
                  <a:latin typeface="Comic Sans MS"/>
                </a:rPr>
                <a:t>Deglutizione sovraglottica</a:t>
              </a: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6" name="Rectangle 22"/>
            <p:cNvSpPr/>
            <p:nvPr/>
          </p:nvSpPr>
          <p:spPr>
            <a:xfrm>
              <a:off x="7471080" y="179280"/>
              <a:ext cx="2312280" cy="947160"/>
            </a:xfrm>
            <a:prstGeom prst="rect">
              <a:avLst/>
            </a:prstGeom>
            <a:solidFill>
              <a:srgbClr val="0000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Comic Sans MS"/>
                </a:rPr>
                <a:t>indicazione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7" name="Rectangle 23"/>
            <p:cNvSpPr/>
            <p:nvPr/>
          </p:nvSpPr>
          <p:spPr>
            <a:xfrm>
              <a:off x="5153760" y="179280"/>
              <a:ext cx="2311920" cy="947160"/>
            </a:xfrm>
            <a:prstGeom prst="rect">
              <a:avLst/>
            </a:prstGeom>
            <a:solidFill>
              <a:srgbClr val="0000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Comic Sans MS"/>
                </a:rPr>
                <a:t>razionale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8" name="Rectangle 24"/>
            <p:cNvSpPr/>
            <p:nvPr/>
          </p:nvSpPr>
          <p:spPr>
            <a:xfrm>
              <a:off x="2834640" y="179280"/>
              <a:ext cx="2315520" cy="947160"/>
            </a:xfrm>
            <a:prstGeom prst="rect">
              <a:avLst/>
            </a:prstGeom>
            <a:solidFill>
              <a:srgbClr val="0000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Comic Sans MS"/>
                </a:rPr>
                <a:t>consiste in 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19" name="Rectangle 25"/>
            <p:cNvSpPr/>
            <p:nvPr/>
          </p:nvSpPr>
          <p:spPr>
            <a:xfrm>
              <a:off x="360360" y="179280"/>
              <a:ext cx="2471040" cy="947160"/>
            </a:xfrm>
            <a:prstGeom prst="rect">
              <a:avLst/>
            </a:prstGeom>
            <a:solidFill>
              <a:srgbClr val="000099">
                <a:alpha val="45000"/>
              </a:srgbClr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Comic Sans MS"/>
                </a:rPr>
                <a:t>tipo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0" name="Line 26"/>
            <p:cNvSpPr/>
            <p:nvPr/>
          </p:nvSpPr>
          <p:spPr>
            <a:xfrm>
              <a:off x="360360" y="179280"/>
              <a:ext cx="9423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1" name="Line 27"/>
            <p:cNvSpPr/>
            <p:nvPr/>
          </p:nvSpPr>
          <p:spPr>
            <a:xfrm>
              <a:off x="360360" y="1131480"/>
              <a:ext cx="94233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2" name="Line 28"/>
            <p:cNvSpPr/>
            <p:nvPr/>
          </p:nvSpPr>
          <p:spPr>
            <a:xfrm>
              <a:off x="360360" y="2205720"/>
              <a:ext cx="94233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3" name="Line 29"/>
            <p:cNvSpPr/>
            <p:nvPr/>
          </p:nvSpPr>
          <p:spPr>
            <a:xfrm>
              <a:off x="360360" y="3612240"/>
              <a:ext cx="94233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4" name="Line 30"/>
            <p:cNvSpPr/>
            <p:nvPr/>
          </p:nvSpPr>
          <p:spPr>
            <a:xfrm>
              <a:off x="360360" y="4561200"/>
              <a:ext cx="94233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5" name="Line 31"/>
            <p:cNvSpPr/>
            <p:nvPr/>
          </p:nvSpPr>
          <p:spPr>
            <a:xfrm>
              <a:off x="360360" y="5564160"/>
              <a:ext cx="94233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6" name="Line 32"/>
            <p:cNvSpPr/>
            <p:nvPr/>
          </p:nvSpPr>
          <p:spPr>
            <a:xfrm>
              <a:off x="360360" y="7188120"/>
              <a:ext cx="9423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7" name="Line 33"/>
            <p:cNvSpPr/>
            <p:nvPr/>
          </p:nvSpPr>
          <p:spPr>
            <a:xfrm>
              <a:off x="360360" y="179280"/>
              <a:ext cx="0" cy="7004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8" name="Line 34"/>
            <p:cNvSpPr/>
            <p:nvPr/>
          </p:nvSpPr>
          <p:spPr>
            <a:xfrm>
              <a:off x="2834640" y="179280"/>
              <a:ext cx="0" cy="70041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29" name="Line 35"/>
            <p:cNvSpPr/>
            <p:nvPr/>
          </p:nvSpPr>
          <p:spPr>
            <a:xfrm>
              <a:off x="5153760" y="179280"/>
              <a:ext cx="0" cy="70041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0" name="Line 36"/>
            <p:cNvSpPr/>
            <p:nvPr/>
          </p:nvSpPr>
          <p:spPr>
            <a:xfrm>
              <a:off x="7471080" y="179280"/>
              <a:ext cx="0" cy="70041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31" name="Line 37"/>
            <p:cNvSpPr/>
            <p:nvPr/>
          </p:nvSpPr>
          <p:spPr>
            <a:xfrm>
              <a:off x="9788400" y="179280"/>
              <a:ext cx="0" cy="7004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7559640" y="7007400"/>
            <a:ext cx="2516400" cy="4046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Ridotta peristalsi faringea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038560" y="7007400"/>
            <a:ext cx="2516400" cy="4046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Utilizza la gravità per spostare il bolo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2514600" y="7007400"/>
            <a:ext cx="2521080" cy="4046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Paziente generalmente a letto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0680" y="7007400"/>
            <a:ext cx="2290680" cy="4046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Comic Sans MS"/>
              </a:rPr>
              <a:t>Capo e tronco in estensione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559640" y="6491160"/>
            <a:ext cx="2516400" cy="51120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Ridotta elevazione laringea.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Compromissione faringee bilaterali.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038560" y="6491160"/>
            <a:ext cx="2516400" cy="51120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Annulla l’effetto gravità sul bolo depositato sul tratto oro-faringeo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514600" y="6491160"/>
            <a:ext cx="2521080" cy="51120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Paziente generalmente a letto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220680" y="6491160"/>
            <a:ext cx="2290680" cy="51120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Comic Sans MS"/>
              </a:rPr>
              <a:t>Decubito laterale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7559640" y="5973840"/>
            <a:ext cx="2516400" cy="5126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disfunzione dello sfintere esofageo inferiore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5038560" y="5973840"/>
            <a:ext cx="2516400" cy="5126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Si chiede al paziente di Ruotare il capo verso il lato Destro o Sinistro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2514600" y="5973840"/>
            <a:ext cx="2521080" cy="5126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Si chiede al paziente di Ruotare il capo verso il lato Destro o Sinistro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220680" y="5973840"/>
            <a:ext cx="2290680" cy="5126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Comic Sans MS"/>
              </a:rPr>
              <a:t>Capo ruotato 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7559640" y="5408640"/>
            <a:ext cx="2516400" cy="56052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ipomobilità della lingua e paralisi faringea unilaterale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5038560" y="5408640"/>
            <a:ext cx="2516400" cy="56052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Dirige il bolo sul lato omolaterale alla flessione sia a livello orale che faringeo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2514600" y="5408640"/>
            <a:ext cx="2521080" cy="56052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Si chiede al paziente di Flettere il capo verso il lato sano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220680" y="5408640"/>
            <a:ext cx="2290680" cy="56052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Comic Sans MS"/>
              </a:rPr>
              <a:t>Flessione laterale del capo verso il lato Sano</a:t>
            </a:r>
            <a:r>
              <a:rPr b="1" lang="it-IT" sz="16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7559640" y="4813200"/>
            <a:ext cx="2516400" cy="59076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paralisi faringea unilaterale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paralisi laringea unilaterale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5038560" y="4813200"/>
            <a:ext cx="2516400" cy="59076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Chiude il seno piriforme omolaterale alla rotazione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Dirige il bolo in quello controlaterale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2514600" y="4813200"/>
            <a:ext cx="2521080" cy="59076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220680" y="4813200"/>
            <a:ext cx="2290680" cy="59076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Comic Sans MS"/>
              </a:rPr>
              <a:t>Capo Ruotato verso il lato Leso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7559640" y="3500280"/>
            <a:ext cx="2516400" cy="130968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Insufficiente chiusura labiale e limitata velocità propulsiva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Ma procura un elevato rischio di inalazione in particolare per i liquidi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È da abbinarsi alla deglutizione sopraglottica.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5038560" y="3500280"/>
            <a:ext cx="2516400" cy="130968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Utilizza la gravità per spostare il bolo nella cavità orale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2514600" y="3500280"/>
            <a:ext cx="2521080" cy="130968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Si chiede al paziente di estendere il capo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220680" y="3500280"/>
            <a:ext cx="2290680" cy="130968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Comic Sans MS"/>
              </a:rPr>
              <a:t>Capo Esteso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7559640" y="2766960"/>
            <a:ext cx="2516400" cy="7304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Trasporto orale inefficace,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Ridotto movimento posteriore della base lingua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5038560" y="2766960"/>
            <a:ext cx="2516400" cy="7304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Sfrutta la gravità per la progressione del bolo nel cavo orale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8" name="Rectangle 28"/>
          <p:cNvSpPr/>
          <p:nvPr/>
        </p:nvSpPr>
        <p:spPr>
          <a:xfrm>
            <a:off x="2514600" y="2766960"/>
            <a:ext cx="2521080" cy="7304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Si chiede al paziente di Flettere il capo e progressivamente estenderlo.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9" name="Rectangle 29"/>
          <p:cNvSpPr/>
          <p:nvPr/>
        </p:nvSpPr>
        <p:spPr>
          <a:xfrm>
            <a:off x="220680" y="2766960"/>
            <a:ext cx="2290680" cy="73044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Comic Sans MS"/>
              </a:rPr>
              <a:t>Capo flesso e lentamente esteso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7559640" y="277920"/>
            <a:ext cx="2516400" cy="248112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Ritardo del riflesso di deglutizione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Ridotta elevazione laringea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Ridotto movimento posteriore della base lingua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1" name="Rectangle 31"/>
          <p:cNvSpPr/>
          <p:nvPr/>
        </p:nvSpPr>
        <p:spPr>
          <a:xfrm>
            <a:off x="5038560" y="277920"/>
            <a:ext cx="2516400" cy="248112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Spinge la base lingua all’indietro,verso la parete faringea posteriore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Provoca l’orizzontalizzazione dell’epiglottide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Protegge  maggiormente le vie aeree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Eleva la laringe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Rallenta la progressione e la discesa del bolo in ipofaringe, aprendo lo spazio vallecolare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Facilita l’innesco della Deglutizione Faringea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Facilita l’apertura dello sfintere cricofaringeo 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2" name="Rectangle 32"/>
          <p:cNvSpPr/>
          <p:nvPr/>
        </p:nvSpPr>
        <p:spPr>
          <a:xfrm>
            <a:off x="2514600" y="277920"/>
            <a:ext cx="2521080" cy="248112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Comic Sans MS"/>
              </a:rPr>
              <a:t>Si chiede al paziente di Flettere il capo.</a:t>
            </a: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220680" y="277920"/>
            <a:ext cx="2290680" cy="2481120"/>
          </a:xfrm>
          <a:prstGeom prst="rect">
            <a:avLst/>
          </a:prstGeom>
          <a:solidFill>
            <a:srgbClr val="ffff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Comic Sans MS"/>
              </a:rPr>
              <a:t>Capo Flesso in avanti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4" name="Rectangle 34"/>
          <p:cNvSpPr/>
          <p:nvPr/>
        </p:nvSpPr>
        <p:spPr>
          <a:xfrm>
            <a:off x="7559640" y="34920"/>
            <a:ext cx="2516400" cy="237960"/>
          </a:xfrm>
          <a:prstGeom prst="rect">
            <a:avLst/>
          </a:prstGeom>
          <a:solidFill>
            <a:srgbClr val="0000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indicazioni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5" name="Rectangle 35"/>
          <p:cNvSpPr/>
          <p:nvPr/>
        </p:nvSpPr>
        <p:spPr>
          <a:xfrm>
            <a:off x="5038560" y="34920"/>
            <a:ext cx="2516400" cy="237960"/>
          </a:xfrm>
          <a:prstGeom prst="rect">
            <a:avLst/>
          </a:prstGeom>
          <a:solidFill>
            <a:srgbClr val="0000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razional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6" name="Rectangle 36"/>
          <p:cNvSpPr/>
          <p:nvPr/>
        </p:nvSpPr>
        <p:spPr>
          <a:xfrm>
            <a:off x="2514600" y="34920"/>
            <a:ext cx="2521080" cy="237960"/>
          </a:xfrm>
          <a:prstGeom prst="rect">
            <a:avLst/>
          </a:prstGeom>
          <a:solidFill>
            <a:srgbClr val="0000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consiste i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Rectangle 37"/>
          <p:cNvSpPr/>
          <p:nvPr/>
        </p:nvSpPr>
        <p:spPr>
          <a:xfrm>
            <a:off x="220680" y="34920"/>
            <a:ext cx="2290680" cy="237960"/>
          </a:xfrm>
          <a:prstGeom prst="rect">
            <a:avLst/>
          </a:prstGeom>
          <a:solidFill>
            <a:srgbClr val="000099">
              <a:alpha val="41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8" name="Line 38"/>
          <p:cNvSpPr/>
          <p:nvPr/>
        </p:nvSpPr>
        <p:spPr>
          <a:xfrm>
            <a:off x="220680" y="34920"/>
            <a:ext cx="9856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9" name="Line 39"/>
          <p:cNvSpPr/>
          <p:nvPr/>
        </p:nvSpPr>
        <p:spPr>
          <a:xfrm>
            <a:off x="220680" y="277920"/>
            <a:ext cx="9856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>
            <a:off x="220680" y="2766960"/>
            <a:ext cx="9856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>
            <a:off x="220680" y="3500280"/>
            <a:ext cx="9856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2" name="Line 42"/>
          <p:cNvSpPr/>
          <p:nvPr/>
        </p:nvSpPr>
        <p:spPr>
          <a:xfrm>
            <a:off x="220680" y="4813200"/>
            <a:ext cx="9856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20680" y="5408640"/>
            <a:ext cx="9856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20680" y="5973840"/>
            <a:ext cx="9856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5" name="Line 45"/>
          <p:cNvSpPr/>
          <p:nvPr/>
        </p:nvSpPr>
        <p:spPr>
          <a:xfrm>
            <a:off x="220680" y="6491160"/>
            <a:ext cx="9856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>
            <a:off x="220680" y="7007400"/>
            <a:ext cx="9856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 flipV="1">
            <a:off x="216000" y="7416360"/>
            <a:ext cx="9861480" cy="142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220680" y="34920"/>
            <a:ext cx="0" cy="7377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Line 49"/>
          <p:cNvSpPr/>
          <p:nvPr/>
        </p:nvSpPr>
        <p:spPr>
          <a:xfrm>
            <a:off x="2514600" y="34920"/>
            <a:ext cx="0" cy="7377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Line 50"/>
          <p:cNvSpPr/>
          <p:nvPr/>
        </p:nvSpPr>
        <p:spPr>
          <a:xfrm>
            <a:off x="5038560" y="34920"/>
            <a:ext cx="0" cy="7377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1" name="Line 51"/>
          <p:cNvSpPr/>
          <p:nvPr/>
        </p:nvSpPr>
        <p:spPr>
          <a:xfrm>
            <a:off x="7559640" y="34920"/>
            <a:ext cx="0" cy="7377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2" name="Line 52"/>
          <p:cNvSpPr/>
          <p:nvPr/>
        </p:nvSpPr>
        <p:spPr>
          <a:xfrm>
            <a:off x="10082160" y="34920"/>
            <a:ext cx="0" cy="7377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6705720" y="6553080"/>
            <a:ext cx="3154320" cy="66060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misolidi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525840" y="6553080"/>
            <a:ext cx="3178080" cy="66060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 densi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431640" y="6553080"/>
            <a:ext cx="3089520" cy="66060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isfunzione dello sfintere esofage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superior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705720" y="6045120"/>
            <a:ext cx="3154320" cy="50328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misolidi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3525840" y="6045120"/>
            <a:ext cx="3178080" cy="50328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 densi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431640" y="6045120"/>
            <a:ext cx="3089520" cy="50328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ficit di elevazione laringea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6705720" y="5411880"/>
            <a:ext cx="3154320" cy="62856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misolidi con tendenza al solido 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 densi con tendenza al liquid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3525840" y="5411880"/>
            <a:ext cx="3178080" cy="62856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misolidi e liquidi densi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431640" y="5411880"/>
            <a:ext cx="3089520" cy="62856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Paralisi laringea unilateral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6705720" y="5072040"/>
            <a:ext cx="3154320" cy="33516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 densi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3525840" y="5072040"/>
            <a:ext cx="3178080" cy="33516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 densi con tendenza al liquid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431640" y="5072040"/>
            <a:ext cx="3089520" cy="33516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idotta peristalsi faringea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6705720" y="4587840"/>
            <a:ext cx="3154320" cy="47952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misolidi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3525840" y="4587840"/>
            <a:ext cx="3178080" cy="47952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 densi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431640" y="4587840"/>
            <a:ext cx="3089520" cy="47952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Paralisi faringea unilateral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6705720" y="3921120"/>
            <a:ext cx="3154320" cy="66204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, solidi  morbidi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Rectangle 18"/>
          <p:cNvSpPr/>
          <p:nvPr/>
        </p:nvSpPr>
        <p:spPr>
          <a:xfrm>
            <a:off x="3525840" y="3921120"/>
            <a:ext cx="3178080" cy="66204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 densi e semisolidi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431640" y="3921120"/>
            <a:ext cx="3089520" cy="66204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itardo d’innesco della deglutizion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ringea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6705720" y="3203640"/>
            <a:ext cx="3154320" cy="71604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 densi con tendenza al semisolid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Rectangle 21"/>
          <p:cNvSpPr/>
          <p:nvPr/>
        </p:nvSpPr>
        <p:spPr>
          <a:xfrm>
            <a:off x="3525840" y="3203640"/>
            <a:ext cx="3178080" cy="71604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 densi con tendenza al liquido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Rectangle 22"/>
          <p:cNvSpPr/>
          <p:nvPr/>
        </p:nvSpPr>
        <p:spPr>
          <a:xfrm>
            <a:off x="431640" y="3203640"/>
            <a:ext cx="3089520" cy="71604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Ipomobilità lingua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4" name="Rectangle 23"/>
          <p:cNvSpPr/>
          <p:nvPr/>
        </p:nvSpPr>
        <p:spPr>
          <a:xfrm>
            <a:off x="6705720" y="2735280"/>
            <a:ext cx="3154320" cy="46188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ostanze fredde o gassat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5" name="Rectangle 24"/>
          <p:cNvSpPr/>
          <p:nvPr/>
        </p:nvSpPr>
        <p:spPr>
          <a:xfrm>
            <a:off x="3525840" y="2735280"/>
            <a:ext cx="3178080" cy="46188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6" name="Rectangle 25"/>
          <p:cNvSpPr/>
          <p:nvPr/>
        </p:nvSpPr>
        <p:spPr>
          <a:xfrm>
            <a:off x="431640" y="2735280"/>
            <a:ext cx="3089520" cy="46188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ficit sensibilità oral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7" name="Rectangle 26"/>
          <p:cNvSpPr/>
          <p:nvPr/>
        </p:nvSpPr>
        <p:spPr>
          <a:xfrm>
            <a:off x="6705720" y="2265480"/>
            <a:ext cx="3154320" cy="46656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misolidi con tendenza al solido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3525840" y="2265480"/>
            <a:ext cx="3178080" cy="46656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, liquidi densi e semisolidi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431640" y="2265480"/>
            <a:ext cx="3089520" cy="46656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ficit di masticazione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6705720" y="1419120"/>
            <a:ext cx="3154320" cy="84132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 densi o solidificazione di liquidi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3525840" y="1419120"/>
            <a:ext cx="3178080" cy="84132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iquidi densi 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431640" y="1419120"/>
            <a:ext cx="3089520" cy="841320"/>
          </a:xfrm>
          <a:prstGeom prst="rect">
            <a:avLst/>
          </a:prstGeom>
          <a:solidFill>
            <a:srgbClr val="ffff99">
              <a:alpha val="38000"/>
            </a:srgbClr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Insufficiente chiusura delle labbra</a:t>
            </a: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6705720" y="539640"/>
            <a:ext cx="3154320" cy="874800"/>
          </a:xfrm>
          <a:prstGeom prst="rect">
            <a:avLst/>
          </a:prstGeom>
          <a:gradFill rotWithShape="0">
            <a:gsLst>
              <a:gs pos="0">
                <a:srgbClr val="000099">
                  <a:alpha val="79215"/>
                </a:srgbClr>
              </a:gs>
              <a:gs pos="100000">
                <a:srgbClr val="000047"/>
              </a:gs>
            </a:gsLst>
            <a:lin ang="5400000"/>
          </a:gra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aratteristiche del cibo  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er il Trattament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3525840" y="539640"/>
            <a:ext cx="3178080" cy="874800"/>
          </a:xfrm>
          <a:prstGeom prst="rect">
            <a:avLst/>
          </a:prstGeom>
          <a:gradFill rotWithShape="0">
            <a:gsLst>
              <a:gs pos="0">
                <a:srgbClr val="000099">
                  <a:alpha val="79215"/>
                </a:srgbClr>
              </a:gs>
              <a:gs pos="100000">
                <a:srgbClr val="000047"/>
              </a:gs>
            </a:gsLst>
            <a:lin ang="5400000"/>
          </a:gra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aratteristiche del Cibo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er l’Alimentazion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431640" y="539640"/>
            <a:ext cx="3089520" cy="874800"/>
          </a:xfrm>
          <a:prstGeom prst="rect">
            <a:avLst/>
          </a:prstGeom>
          <a:gradFill rotWithShape="0">
            <a:gsLst>
              <a:gs pos="0">
                <a:srgbClr val="000099">
                  <a:alpha val="79215"/>
                </a:srgbClr>
              </a:gs>
              <a:gs pos="100000">
                <a:srgbClr val="000047"/>
              </a:gs>
            </a:gsLst>
            <a:lin ang="5400000"/>
          </a:gra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3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lterazioni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431640" y="539640"/>
            <a:ext cx="9429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>
            <a:off x="431640" y="7218360"/>
            <a:ext cx="9429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431640" y="539640"/>
            <a:ext cx="0" cy="6674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9" name="Line 38"/>
          <p:cNvSpPr/>
          <p:nvPr/>
        </p:nvSpPr>
        <p:spPr>
          <a:xfrm>
            <a:off x="9866160" y="539640"/>
            <a:ext cx="0" cy="6674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0" name="Line 39"/>
          <p:cNvSpPr/>
          <p:nvPr/>
        </p:nvSpPr>
        <p:spPr>
          <a:xfrm>
            <a:off x="431640" y="1419120"/>
            <a:ext cx="626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1" name="Line 40"/>
          <p:cNvSpPr/>
          <p:nvPr/>
        </p:nvSpPr>
        <p:spPr>
          <a:xfrm>
            <a:off x="3525840" y="539640"/>
            <a:ext cx="0" cy="6674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>
            <a:off x="6705720" y="539640"/>
            <a:ext cx="0" cy="6674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3" name="Line 42"/>
          <p:cNvSpPr/>
          <p:nvPr/>
        </p:nvSpPr>
        <p:spPr>
          <a:xfrm>
            <a:off x="431640" y="2265480"/>
            <a:ext cx="626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4" name="Line 43"/>
          <p:cNvSpPr/>
          <p:nvPr/>
        </p:nvSpPr>
        <p:spPr>
          <a:xfrm>
            <a:off x="6705720" y="1419120"/>
            <a:ext cx="3154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431640" y="2735280"/>
            <a:ext cx="626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6" name="Line 45"/>
          <p:cNvSpPr/>
          <p:nvPr/>
        </p:nvSpPr>
        <p:spPr>
          <a:xfrm>
            <a:off x="6705720" y="2265480"/>
            <a:ext cx="3154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7" name="Line 46"/>
          <p:cNvSpPr/>
          <p:nvPr/>
        </p:nvSpPr>
        <p:spPr>
          <a:xfrm>
            <a:off x="431640" y="3203640"/>
            <a:ext cx="626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8" name="Line 47"/>
          <p:cNvSpPr/>
          <p:nvPr/>
        </p:nvSpPr>
        <p:spPr>
          <a:xfrm>
            <a:off x="6705720" y="2735280"/>
            <a:ext cx="3154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9" name="Line 48"/>
          <p:cNvSpPr/>
          <p:nvPr/>
        </p:nvSpPr>
        <p:spPr>
          <a:xfrm>
            <a:off x="431640" y="3921120"/>
            <a:ext cx="626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0" name="Line 49"/>
          <p:cNvSpPr/>
          <p:nvPr/>
        </p:nvSpPr>
        <p:spPr>
          <a:xfrm>
            <a:off x="6705720" y="3203640"/>
            <a:ext cx="3154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1" name="Line 50"/>
          <p:cNvSpPr/>
          <p:nvPr/>
        </p:nvSpPr>
        <p:spPr>
          <a:xfrm>
            <a:off x="431640" y="4587840"/>
            <a:ext cx="626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2" name="Line 51"/>
          <p:cNvSpPr/>
          <p:nvPr/>
        </p:nvSpPr>
        <p:spPr>
          <a:xfrm>
            <a:off x="6705720" y="3921120"/>
            <a:ext cx="3154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3" name="Line 52"/>
          <p:cNvSpPr/>
          <p:nvPr/>
        </p:nvSpPr>
        <p:spPr>
          <a:xfrm>
            <a:off x="431640" y="5072040"/>
            <a:ext cx="626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4" name="Line 53"/>
          <p:cNvSpPr/>
          <p:nvPr/>
        </p:nvSpPr>
        <p:spPr>
          <a:xfrm>
            <a:off x="6705720" y="4587840"/>
            <a:ext cx="3154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5" name="Line 54"/>
          <p:cNvSpPr/>
          <p:nvPr/>
        </p:nvSpPr>
        <p:spPr>
          <a:xfrm>
            <a:off x="431640" y="5411880"/>
            <a:ext cx="626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6" name="Line 55"/>
          <p:cNvSpPr/>
          <p:nvPr/>
        </p:nvSpPr>
        <p:spPr>
          <a:xfrm>
            <a:off x="6705720" y="5072040"/>
            <a:ext cx="3154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7" name="Line 56"/>
          <p:cNvSpPr/>
          <p:nvPr/>
        </p:nvSpPr>
        <p:spPr>
          <a:xfrm>
            <a:off x="431640" y="6045120"/>
            <a:ext cx="626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8" name="Line 57"/>
          <p:cNvSpPr/>
          <p:nvPr/>
        </p:nvSpPr>
        <p:spPr>
          <a:xfrm>
            <a:off x="6705720" y="5411880"/>
            <a:ext cx="3154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9" name="Line 58"/>
          <p:cNvSpPr/>
          <p:nvPr/>
        </p:nvSpPr>
        <p:spPr>
          <a:xfrm>
            <a:off x="431640" y="6553080"/>
            <a:ext cx="62690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0" name="Line 59"/>
          <p:cNvSpPr/>
          <p:nvPr/>
        </p:nvSpPr>
        <p:spPr>
          <a:xfrm>
            <a:off x="6705720" y="6045120"/>
            <a:ext cx="3154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1" name="Line 60"/>
          <p:cNvSpPr/>
          <p:nvPr/>
        </p:nvSpPr>
        <p:spPr>
          <a:xfrm>
            <a:off x="6705720" y="6553080"/>
            <a:ext cx="31543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Gruppi di studio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63640" y="1847520"/>
            <a:ext cx="8856720" cy="5172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5320" indent="-355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GD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9680" indent="-296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uropean study Group for Dysphagia and Globu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9680" indent="-296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ruppo europeo nato ad Amsterdam nel 1992 che si occupa della fisiologia e patologia della degluti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5320" indent="-355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I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9680" indent="-296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ruppo Italiano di Studio sulla Disfagia  (sezione italiana del EGDG) nato a Roma nel 200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55320" indent="-3553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ENSUS CONFERENCE DELLA F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9680" indent="-296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sperti e rappresentanti autorevoli della Professione, Società Scientifiche e Organizzazioni Rappresentative Nazionali (FLI, SIFEL, GIRD, SSLI) il 29 gennaio 2007 si sono riuniti a Torino per discutere dell'appropriatezza e delle LG per la gestione del paziente disfagico adulto e hanno redatto un documento “La Gestione del paziente disfagico adulto in Foniatria e Logopedia” che è accessibile sul sito dell'ALP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2482920"/>
            <a:ext cx="3284640" cy="475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6769080" y="2482920"/>
            <a:ext cx="3273480" cy="4753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5689440" y="395280"/>
            <a:ext cx="18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3384720" y="2552760"/>
            <a:ext cx="3303360" cy="4683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494160"/>
            <a:ext cx="10080720" cy="5905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NELL’ULTIMO DECENNIO SONO STATE SVILUPPATE E CONDIVISE LINEE GUIDA INTERNAZIONALI </a:t>
            </a:r>
            <a:br>
              <a:rPr sz="2200"/>
            </a:b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SULLA GESTIONE DEL PAZIENTE DISFAGICO.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NCHE IN MFR A REGGIO E. ABBIAMO PRODOTTO UNA PROCEDURA PER LA </a:t>
            </a:r>
            <a:r>
              <a:rPr b="1" lang="en-GB" sz="2200" spc="-1" strike="noStrike">
                <a:solidFill>
                  <a:srgbClr val="cc0000"/>
                </a:solidFill>
                <a:latin typeface="Arial"/>
              </a:rPr>
              <a:t>GESTIONE INTERPROFESSIONALE DELLA DISFAGIA,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HE DEFINISCE RESPONSABILITA’ E AZIONI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N L’OBIETTIVO DI RIDURRE IL RISCHIO CLINICO</a:t>
            </a:r>
            <a:endParaRPr b="1" lang="en-US" sz="2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431640" y="120600"/>
            <a:ext cx="6264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0" y="969840"/>
            <a:ext cx="7561440" cy="66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96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Lucida Sans Unicode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. ‘Procedura per la gestione integrata della disfagia nei pazienti con esiti di stroke’ Gruppo DISFAGIA MFR-Reggio E. 2010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496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2. SIGN ‘Management of patients with stroke: identification and management of dysphagia.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A national clinical guideline’, June 2010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496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3. Carnaby G et al.  Behavioural intervention for dysphagia in acute stroke: a randomised controlled trial. Lancet Neurol 2006; 5: 31-37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496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4. ‘Linee guida sulla gestione del paziente disfagico adulto in foniatria e logopedia’ Consensus Conference Torino, 29 Gennaio 2007, Raccomandazioni del Comitato Promotore Federazione Logopedisti Italiani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496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5. L. Perry et al. ‘Screening for dysphagia and aspiration in acute stroke: a systematic review’ Dysphagia 2001, 16:7-18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496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6. Stroke Prevention and Educational Awareness Diffusion (SPREAD) ‘Ictus cerebrale: Linee guida italiane di prevenzione e trattamento’ - Sesta Edizione - Stesura di gennaio 2010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496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7. Martino R et al. Dysphagia after stroke: incidence, diagnosis, and pulmonary complications. Stroke 2005; 36: 2756-2763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496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8. Katzan IL et al. The effect of pneumonia on mortality among patients hospitalized for acute stroke. Neurology 2003; 60: 620-625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496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Lucida Sans Unicode"/>
              </a:rPr>
              <a:t>9. Centro studi EBN AOU S.Orsola-Malpighi di Bologna ‘Percorso assistenziale per il paziente con disfagia oro-faringea, revisione 2009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4968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 rot="16200000">
            <a:off x="5418720" y="3115080"/>
            <a:ext cx="7164360" cy="1295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lnSpc>
                <a:spcPct val="109000"/>
              </a:lnSpc>
              <a:spcBef>
                <a:spcPts val="21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5100" spc="-1" strike="noStrike">
                <a:solidFill>
                  <a:srgbClr val="ff99ff"/>
                </a:solidFill>
                <a:latin typeface="Comic Sans MS"/>
              </a:rPr>
              <a:t>  </a:t>
            </a:r>
            <a:r>
              <a:rPr b="0" lang="it-IT" sz="5100" spc="-1" strike="noStrike">
                <a:solidFill>
                  <a:srgbClr val="ff99ff"/>
                </a:solidFill>
                <a:latin typeface="Comic Sans MS"/>
              </a:rPr>
              <a:t>G</a:t>
            </a:r>
            <a:br>
              <a:rPr sz="5100"/>
            </a:br>
            <a:r>
              <a:rPr b="0" lang="it-IT" sz="5100" spc="-1" strike="noStrike">
                <a:solidFill>
                  <a:srgbClr val="ff99ff"/>
                </a:solidFill>
                <a:latin typeface="Comic Sans MS"/>
              </a:rPr>
              <a:t>  R</a:t>
            </a:r>
            <a:br>
              <a:rPr sz="5100"/>
            </a:br>
            <a:r>
              <a:rPr b="0" lang="it-IT" sz="5100" spc="-1" strike="noStrike">
                <a:solidFill>
                  <a:srgbClr val="ff99ff"/>
                </a:solidFill>
                <a:latin typeface="Comic Sans MS"/>
              </a:rPr>
              <a:t>  A</a:t>
            </a:r>
            <a:br>
              <a:rPr sz="5100"/>
            </a:br>
            <a:r>
              <a:rPr b="0" lang="it-IT" sz="5100" spc="-1" strike="noStrike">
                <a:solidFill>
                  <a:srgbClr val="ff99ff"/>
                </a:solidFill>
                <a:latin typeface="Comic Sans MS"/>
              </a:rPr>
              <a:t>  Z</a:t>
            </a:r>
            <a:br>
              <a:rPr sz="5100"/>
            </a:br>
            <a:r>
              <a:rPr b="0" lang="it-IT" sz="5100" spc="-1" strike="noStrike">
                <a:solidFill>
                  <a:srgbClr val="ff99ff"/>
                </a:solidFill>
                <a:latin typeface="Comic Sans MS"/>
              </a:rPr>
              <a:t>  I</a:t>
            </a:r>
            <a:br>
              <a:rPr sz="5100"/>
            </a:br>
            <a:r>
              <a:rPr b="0" lang="it-IT" sz="5100" spc="-1" strike="noStrike">
                <a:solidFill>
                  <a:srgbClr val="ff99ff"/>
                </a:solidFill>
                <a:latin typeface="Comic Sans MS"/>
              </a:rPr>
              <a:t>  E</a:t>
            </a:r>
            <a:endParaRPr b="0" lang="en-US" sz="5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20720" y="84240"/>
            <a:ext cx="30607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>
              <a:lnSpc>
                <a:spcPct val="100000"/>
              </a:lnSpc>
              <a:spcBef>
                <a:spcPts val="21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Bibliografia</a:t>
            </a:r>
            <a:endParaRPr b="0" lang="en-US" sz="35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178920"/>
            <a:ext cx="8064360" cy="125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GESTIONE DEL PAZIENTE DISFAGICO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7280" y="1511280"/>
            <a:ext cx="9061560" cy="630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9000" indent="0"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A GESTIONE DELLA DISFAGIA È COMPLESSA E COSTOSA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11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E' UN ATTO MULTIDISCIPLINARE E MULTIPROFESSIONALE CHE RICHIEDE LA  COLLABORAZIONE DI NUMEROSI ESPERTI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SIA IN FASE DIAGNOSTICA</a:t>
            </a:r>
            <a:r>
              <a:rPr b="0" lang="it-IT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HE IN FASE TERAPEUTI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22520" y="3203640"/>
          <a:ext cx="7088040" cy="2630520"/>
        </p:xfrm>
        <a:graphic>
          <a:graphicData uri="http://schemas.openxmlformats.org/drawingml/2006/table">
            <a:tbl>
              <a:tblPr/>
              <a:tblGrid>
                <a:gridCol w="3546360"/>
                <a:gridCol w="3541680"/>
              </a:tblGrid>
              <a:tr h="375480"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Infermiere professionale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Fisiatra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5480"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Fisioterapista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Radiologo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5480"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logopedista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Otorino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5480"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Foniatra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Gastroenteroloogo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5480"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Dietista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Neurologo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8360"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OSS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774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Internista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5480"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Caregivers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  <a:ea typeface="Lucida Sans Unicode"/>
                        </a:rPr>
                        <a:t>Pneumologo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2"/>
          <p:cNvSpPr/>
          <p:nvPr/>
        </p:nvSpPr>
        <p:spPr>
          <a:xfrm>
            <a:off x="1440000" y="2914560"/>
            <a:ext cx="4464000" cy="86544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ff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SCREENING DISFAGIA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MEDICO - INFERMIER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6119640" y="1763640"/>
            <a:ext cx="2853000" cy="1295640"/>
          </a:xfrm>
          <a:prstGeom prst="ellipse">
            <a:avLst/>
          </a:prstGeom>
          <a:solidFill>
            <a:srgbClr val="99ccff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VALUTAZIONE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CLINICA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algn="ctr"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LOGOPEDISTA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5977080" y="4716360"/>
            <a:ext cx="2814480" cy="736560"/>
          </a:xfrm>
          <a:prstGeom prst="ellipse">
            <a:avLst/>
          </a:prstGeom>
          <a:solidFill>
            <a:srgbClr val="ff3366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2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99284c"/>
                </a:solidFill>
                <a:latin typeface="Arial"/>
              </a:rPr>
              <a:t>VFG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4248000" y="5940360"/>
            <a:ext cx="2035440" cy="909720"/>
          </a:xfrm>
          <a:prstGeom prst="ellipse">
            <a:avLst/>
          </a:prstGeom>
          <a:solidFill>
            <a:srgbClr val="9999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660066"/>
                </a:solidFill>
                <a:latin typeface="Arial"/>
              </a:rPr>
              <a:t>FEESS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647640" y="6084720"/>
            <a:ext cx="2664000" cy="887760"/>
          </a:xfrm>
          <a:prstGeom prst="ellipse">
            <a:avLst/>
          </a:prstGeom>
          <a:solidFill>
            <a:srgbClr val="3deb3d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4a4a"/>
                </a:solidFill>
                <a:latin typeface="Arial"/>
              </a:rPr>
              <a:t>FEE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647640" y="4140360"/>
            <a:ext cx="3875040" cy="1312560"/>
          </a:xfrm>
          <a:prstGeom prst="roundRect">
            <a:avLst>
              <a:gd name="adj" fmla="val 13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VALUTAZIONE STRUMENTAL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FONIATRA – OTORINO - RADIOLOGO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1727280" y="5506920"/>
            <a:ext cx="144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816360" y="5580000"/>
            <a:ext cx="51444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896000" y="485928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03280" y="1403280"/>
            <a:ext cx="3732120" cy="952560"/>
          </a:xfrm>
          <a:prstGeom prst="roundRect">
            <a:avLst>
              <a:gd name="adj" fmla="val 134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VALUTAZIONE NON STRUMENTAL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535640" y="1835280"/>
            <a:ext cx="1512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1800360" y="2556000"/>
            <a:ext cx="3585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84360" y="-360"/>
            <a:ext cx="7562880" cy="125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Valutazione della disfagia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LOGOPEDISTA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885672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0440" indent="-370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lutazione Clinica non strument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0440" indent="0"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0440" indent="-3704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rapia deglutitoria orientata funzionale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odi ripristinativ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ensator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2440" indent="-3092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atta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0440" indent="0"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0440" indent="-370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selling al paziente, ai suoi familiari, al personale sanit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2360" y="178920"/>
            <a:ext cx="8064720" cy="125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VALUTAZIONE: OBIETTIVI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2360" y="1619280"/>
            <a:ext cx="7704360" cy="5316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3000"/>
          </a:bodyPr>
          <a:p>
            <a:pPr marL="313560" indent="-3135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Quadro completo della situazione del paz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3560" indent="-3135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ccertare la presenza di eventuali segni disfagici e di presunta aspir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3560" indent="-3135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alizzare la sequenza deglutitoria e la coordinazione dei movimenti necessari per un atto adegu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3560" indent="-3135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dividuare le alterazioni nelle varie fasi della degluti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3560" indent="-3135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bilire la gravità della disfagia (sca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3560" indent="-3135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7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Valutare il tipo di deglutizione possib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49200" y="1332000"/>
            <a:ext cx="937116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3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VALUTAZIONE: OBIETTIVI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63280" y="1847880"/>
            <a:ext cx="9001080" cy="5316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2880" indent="-3628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bilire con il medico il tipo di alimentazione possibil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(enterale, mista, per os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e il tipo di nutrizione somministrabile al pazien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2880" indent="-3628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venire episodi di soffocamento, infezioni polmonari e danni second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2880" indent="-3628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bilire il tipo di trattamento adeguato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(ripristinare la deglutizione, utilizzare compensi e tecniche specifi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2880" indent="-36288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estire i problemi correlati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(cannula tracheale, sondino naso-gastrico,PE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2880" indent="-36288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potizzare previsioni prognostiche per scegliere strategie riabilitative adeg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420840"/>
            <a:ext cx="8064360" cy="125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VALUTAZIONE CLINICA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63640" y="1847880"/>
            <a:ext cx="8856720" cy="4703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5320" indent="-355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1- ANAMN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9680" indent="-2966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agnosi clinica, insorgenza ed evoluzione della disfagia, terapie farmacologiche in atto, stato nutrizionale, funzione respiratoria, funzioni cogn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9680" indent="0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5320" indent="-355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2- OSSERVAZIONE DEL PAZ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9680" indent="-2966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-requisiti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(attenzione, collaborazione, orientamento),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ensibilità, motricità e prassie orali, rifless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9680" indent="0">
              <a:spcBef>
                <a:spcPts val="4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5320" indent="-3553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3- ESAME CLINICO DELLA DEGLUTI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9680" indent="-2966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ove di deglutizione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(saliva, liquidi, semi-liquidi, semi-solidi, solid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55320" indent="0">
              <a:spcBef>
                <a:spcPts val="4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47640" y="1596960"/>
            <a:ext cx="8856720" cy="5711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namnesi: situazione globale delle altre funzioni correlat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(fonazione, articolazio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s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petto Mucosa Orale e Secre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nsibili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nicità e  Motrici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ifless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stione Sal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9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o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0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sse Volonta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1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SSERVAZIONE DEGLUTI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 Vuo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mi-so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iqu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o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2"/>
              </a:buBlip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RUMEN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ulsossimet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nendoscop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7024680" y="3938760"/>
            <a:ext cx="3056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Text Box 3"/>
          <p:cNvGrpSpPr/>
          <p:nvPr/>
        </p:nvGrpSpPr>
        <p:grpSpPr>
          <a:xfrm>
            <a:off x="5827680" y="3413160"/>
            <a:ext cx="4041720" cy="3429360"/>
            <a:chOff x="5827680" y="3413160"/>
            <a:chExt cx="4041720" cy="3429360"/>
          </a:xfrm>
        </p:grpSpPr>
        <p:pic>
          <p:nvPicPr>
            <p:cNvPr id="138" name="Text Box 3" descr=""/>
            <p:cNvPicPr/>
            <p:nvPr/>
          </p:nvPicPr>
          <p:blipFill>
            <a:blip r:embed="rId13"/>
            <a:stretch/>
          </p:blipFill>
          <p:spPr>
            <a:xfrm>
              <a:off x="5827680" y="3413160"/>
              <a:ext cx="4041720" cy="32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832360" y="3419640"/>
              <a:ext cx="4032360" cy="34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ahoma"/>
                </a:rPr>
                <a:t>Fattori di rischio</a:t>
              </a:r>
              <a:r>
                <a:rPr b="1" lang="it-IT" sz="1300" spc="-1" strike="noStrike">
                  <a:solidFill>
                    <a:srgbClr val="ffffff"/>
                  </a:solidFill>
                  <a:latin typeface="Tahoma"/>
                </a:rPr>
                <a:t>:</a:t>
              </a:r>
              <a:endParaRPr b="0" lang="en-US" sz="13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</a:rPr>
                <a:t>SCARSA MOTILITÀ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</a:rPr>
                <a:t>RITARDO/ASSENZA  RIFLESSO FARINGEO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</a:rPr>
                <a:t>RIDOTTA ELEVAZIONE LARINGEA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</a:rPr>
                <a:t>TOSSE 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</a:rPr>
                <a:t>VOCE GORGOGLIANTE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</a:rPr>
                <a:t>ESPIRAZIONE RUMOROSA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</a:rPr>
                <a:t>DESATURAZIONE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</a:rPr>
                <a:t>RUMORI UMIDI</a:t>
              </a:r>
              <a:endParaRPr b="0" lang="en-US" sz="16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pic>
        <p:nvPicPr>
          <p:cNvPr id="140" name="Picture 6" descr=""/>
          <p:cNvPicPr/>
          <p:nvPr/>
        </p:nvPicPr>
        <p:blipFill>
          <a:blip r:embed="rId14"/>
          <a:stretch/>
        </p:blipFill>
        <p:spPr>
          <a:xfrm>
            <a:off x="7095960" y="1835280"/>
            <a:ext cx="1305000" cy="1504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79280" y="250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spcBef>
                <a:spcPts val="213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it-IT" sz="3500" spc="-1" strike="noStrike">
                <a:solidFill>
                  <a:srgbClr val="cc0000"/>
                </a:solidFill>
                <a:latin typeface="Tahoma"/>
              </a:rPr>
              <a:t>PROTOCOLLO </a:t>
            </a:r>
            <a:endParaRPr b="1" lang="en-US" sz="35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cato</dc:creator>
  <dc:description/>
  <dc:language>en-US</dc:language>
  <cp:lastModifiedBy>ff fff</cp:lastModifiedBy>
  <cp:lastPrinted>2009-04-22T19:24:48Z</cp:lastPrinted>
  <dcterms:modified xsi:type="dcterms:W3CDTF">2012-10-16T12:02:53Z</dcterms:modified>
  <cp:revision>197</cp:revision>
  <dc:subject/>
  <dc:title>UNIVERSITA' DEGLI STUDI DI  MODENA E REGGIO EMILIA</dc:title>
</cp:coreProperties>
</file>